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7CD-A8FA-4AFE-89A0-E54A045D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3CE-E688-46C2-8F55-2B7CB06F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108-C4DF-4953-8214-F34F092B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0B0-B1D2-4717-BD43-5A1DF3F7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269-B20F-4BAE-B19D-432E54A7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4E2-14F7-4210-940C-01811FC4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FF8-4108-4807-A19A-70C8E7E9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0B2-019F-4B27-887B-8D205E1B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87D-E44F-437D-B3DC-5759A7B2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D71-1E28-4456-AC8D-333B292A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82A-BDC6-4ACB-81FB-E7A2AFD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5FB-C780-4907-9BC3-F144CDD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E7D1-FDC8-40D0-B7A2-DED50879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C:\Users\Administrator\Desktop\haiou.jpg"/>
          <p:cNvPicPr/>
          <p:nvPr/>
        </p:nvPicPr>
        <p:blipFill>
          <a:blip r:embed="rId1"/>
          <a:stretch/>
        </p:blipFill>
        <p:spPr>
          <a:xfrm>
            <a:off x="762120" y="533520"/>
            <a:ext cx="8076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1:04:24Z</dcterms:created>
  <dc:creator>Administrator</dc:creator>
  <dc:description/>
  <dc:language>en-US</dc:language>
  <cp:lastModifiedBy>Administrator</cp:lastModifiedBy>
  <dcterms:modified xsi:type="dcterms:W3CDTF">2015-03-20T06:46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