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7598-6B4C-40A5-B990-A6E62BC79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E377-5F27-4DA4-903B-D1937200A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D1EC-3E50-400B-A96E-2448F9591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6592-B85D-431C-8E59-7BC4C3FF9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4FEE-5FF3-4028-993A-E3AA4AEB5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BC06-867E-4055-A780-E860ADE85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3B3C-F566-4821-AB4C-F2DD3B0B6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D2BE-6DCD-49E1-A135-3EF5E706E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CCD7-6AA9-4F31-99DE-9B0DFEF07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4C8A-B568-40BF-90E7-7D5D9878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C966-9C18-4ECD-98A1-900F0053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672F-1832-434C-8CB3-0AF740689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4F293-F8A5-4297-BF26-AE7D1D4E016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Administrator\Desktop\2014第二套\t01acc95ed59020ddcb.jpg"/>
          <p:cNvPicPr/>
          <p:nvPr/>
        </p:nvPicPr>
        <p:blipFill>
          <a:blip r:embed="rId1"/>
          <a:stretch/>
        </p:blipFill>
        <p:spPr>
          <a:xfrm>
            <a:off x="4721400" y="3772080"/>
            <a:ext cx="4422600" cy="30859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C:\Users\Administrator\Desktop\2014第二套\t016eebb3bd9d0dbf4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矩形 1" descr=""/>
          <p:cNvPicPr/>
          <p:nvPr/>
        </p:nvPicPr>
        <p:blipFill>
          <a:blip r:embed="rId1"/>
          <a:stretch/>
        </p:blipFill>
        <p:spPr>
          <a:xfrm>
            <a:off x="2054160" y="2712960"/>
            <a:ext cx="506592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3T00:32:30Z</dcterms:created>
  <dc:creator>Administrator</dc:creator>
  <dc:description/>
  <dc:language>en-US</dc:language>
  <cp:lastModifiedBy>Administrator</cp:lastModifiedBy>
  <dcterms:modified xsi:type="dcterms:W3CDTF">2015-03-23T00:38:49Z</dcterms:modified>
  <cp:revision>2</cp:revision>
  <dc:subject/>
  <dc:title>幻灯片 1</dc:title>
</cp:coreProperties>
</file>